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driveby.wav" ContentType="audio/x-wav"/>
  <Override PartName="/ppt/media/laser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699-B367-4773-A244-4BDD3451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B27-C79C-456D-A435-118EC140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6D7-2A12-43F2-B7A2-18D5DD69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BBD-8CC1-4BA9-A8B8-317DD64F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67A-06EE-49F5-A7BB-1883806B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593-5300-4BD3-B515-CF80EB61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CBE-E56D-4598-AC23-160A10B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210-540E-4218-B0B4-45A853E8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F98-6549-4029-BC9B-9966B2DD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DEA-B72B-4088-8C85-5FDCF5A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ACC-B4BB-4FBE-AA12-738B45E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2F7-9D20-409B-BD39-71490629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72F-E5B9-40AE-B61C-7A82F8C3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laser.wav"/><Relationship Id="rId17" Type="http://schemas.openxmlformats.org/officeDocument/2006/relationships/audio" Target="../media/driveby.wav"/><Relationship Id="rId18" Type="http://schemas.openxmlformats.org/officeDocument/2006/relationships/audio" Target="../media/carbrake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880" y="1600200"/>
                <a:ext cx="292104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46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57800" y="1980720"/>
            <a:ext cx="3754440" cy="3429000"/>
            <a:chOff x="4357800" y="1980720"/>
            <a:chExt cx="3754440" cy="3429000"/>
          </a:xfrm>
        </p:grpSpPr>
        <p:sp>
          <p:nvSpPr>
            <p:cNvPr id="61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57800" y="46116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562720" y="2666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191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057400"/>
            <a:ext cx="3047760" cy="289548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809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495680" y="2057400"/>
            <a:ext cx="3429000" cy="32767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32767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00200" y="3352680"/>
                <a:ext cx="13971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73" name=""/>
          <p:cNvCxnSpPr>
            <a:stCxn id="71" idx="2"/>
          </p:cNvCxnSpPr>
          <p:nvPr/>
        </p:nvCxnSpPr>
        <p:spPr>
          <a:xfrm flipV="1" rot="10800000">
            <a:off x="2997000" y="3504960"/>
            <a:ext cx="3175560" cy="321840"/>
          </a:xfrm>
          <a:prstGeom prst="curvedConnector3">
            <a:avLst>
              <a:gd name="adj1" fmla="val 2544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7200" y="4267080"/>
                <a:ext cx="2793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7200" y="4952880"/>
                <a:ext cx="2290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58920" y="1646280"/>
                <a:ext cx="29667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81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357800" y="1980720"/>
            <a:ext cx="3754440" cy="3429000"/>
            <a:chOff x="4357800" y="1980720"/>
            <a:chExt cx="3754440" cy="3429000"/>
          </a:xfrm>
        </p:grpSpPr>
        <p:sp>
          <p:nvSpPr>
            <p:cNvPr id="96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57800" y="46116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14400" y="3124080"/>
                <a:ext cx="23734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" y="358128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38280" y="358128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33520" y="4191120"/>
            <a:ext cx="304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4267080"/>
                <a:ext cx="868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71600" y="4114800"/>
                <a:ext cx="2238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14400" y="4724280"/>
                <a:ext cx="2376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562720" y="1980720"/>
            <a:ext cx="1828800" cy="342900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2096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162920" y="1752480"/>
            <a:ext cx="0" cy="3733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907320" y="5486400"/>
                <a:ext cx="1452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>
            <a:stCxn id="109" idx="6"/>
          </p:cNvCxnSpPr>
          <p:nvPr/>
        </p:nvCxnSpPr>
        <p:spPr>
          <a:xfrm>
            <a:off x="7410240" y="2438280"/>
            <a:ext cx="950040" cy="3523680"/>
          </a:xfrm>
          <a:prstGeom prst="curvedConnector5">
            <a:avLst>
              <a:gd name="adj1" fmla="val 124071"/>
              <a:gd name="adj2" fmla="val 49994"/>
              <a:gd name="adj3" fmla="val 12407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920" y="5257800"/>
                <a:ext cx="3186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6076800"/>
                <a:ext cx="24019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076640" y="6105600"/>
                <a:ext cx="15638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Graph-and-Check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and check to solve each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80880" y="1676520"/>
                <a:ext cx="29671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4495680" y="2057400"/>
            <a:ext cx="3428640" cy="3276360"/>
            <a:chOff x="4495680" y="2057400"/>
            <a:chExt cx="3428640" cy="3276360"/>
          </a:xfrm>
        </p:grpSpPr>
        <p:sp>
          <p:nvSpPr>
            <p:cNvPr id="121" name=""/>
            <p:cNvSpPr/>
            <p:nvPr/>
          </p:nvSpPr>
          <p:spPr>
            <a:xfrm>
              <a:off x="5257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560" y="2057400"/>
              <a:ext cx="38052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132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344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95680" y="2057400"/>
              <a:ext cx="380880" cy="32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5680" y="20574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242136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27853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314928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351360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95680" y="387756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5680" y="424152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95680" y="4605840"/>
              <a:ext cx="3428640" cy="36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4969800"/>
              <a:ext cx="3428640" cy="36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343400" y="1980720"/>
            <a:ext cx="3754440" cy="3429000"/>
            <a:chOff x="4343400" y="1980720"/>
            <a:chExt cx="3754440" cy="3429000"/>
          </a:xfrm>
        </p:grpSpPr>
        <p:sp>
          <p:nvSpPr>
            <p:cNvPr id="136" name=""/>
            <p:cNvSpPr/>
            <p:nvPr/>
          </p:nvSpPr>
          <p:spPr>
            <a:xfrm flipV="1">
              <a:off x="5638680" y="19807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343400" y="3429000"/>
              <a:ext cx="3754440" cy="7632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x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666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y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x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657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-in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057400"/>
            <a:ext cx="1752480" cy="327672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05520" y="2666880"/>
            <a:ext cx="2895480" cy="28195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657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962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740640" y="5486400"/>
                <a:ext cx="1787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4" name=""/>
          <p:cNvCxnSpPr>
            <a:stCxn id="152" idx="6"/>
          </p:cNvCxnSpPr>
          <p:nvPr/>
        </p:nvCxnSpPr>
        <p:spPr>
          <a:xfrm>
            <a:off x="6648120" y="4190760"/>
            <a:ext cx="1880280" cy="1770840"/>
          </a:xfrm>
          <a:prstGeom prst="curvedConnector5">
            <a:avLst>
              <a:gd name="adj1" fmla="val 112160"/>
              <a:gd name="adj2" fmla="val 50000"/>
              <a:gd name="adj3" fmla="val 11216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160" y="4191120"/>
                <a:ext cx="40798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0200" y="502920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0" y="5910120"/>
                <a:ext cx="3745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5867280"/>
                <a:ext cx="2457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4-11-22T18:14:59Z</dcterms:modified>
  <cp:revision>106</cp:revision>
  <dc:subject/>
  <dc:title>PowerPoint Presentation</dc:title>
</cp:coreProperties>
</file>